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88EBD5F-8F59-4D2E-A6C5-76167CC63C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4DD507-1DF2-4969-9837-3F431C9984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31CCF01-F8E2-438D-A9FE-E97BE1635C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ED7E2D5-4878-4221-A5BB-51743F7A32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4A12C7-AB46-48FE-AD57-1CDA8A1AB7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72B9E-14F4-415B-A1C0-333ECEC03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C30AE-F604-4D3D-84EE-29A91447F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E4B48-E511-42C0-BF80-0DE9C712D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8FA3E-4B1B-4E10-AE74-6E77AA5F7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611A2-C054-428B-A8DD-5D63C02F1E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90EA0-6D7B-4F1A-A975-853C5D38B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E86F59-B979-467C-B8AD-BBFED3078F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73689-61AF-4C43-BFA6-4FEE80063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95698-5036-41A9-B238-F84E431C4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A1ACB-E282-47E4-84D9-A7F5472B3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981FA7-8899-4F03-8300-EEE83A4AFD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9DE826-3E6F-40BF-8335-B57C166460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E8E668-58F5-4FFD-BD5D-4E73BB7F3A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4053D2-63A7-466B-BB6D-800E042B6A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43906C-5F19-4A09-B36F-E9F0738F57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174A4D-FDA0-4D89-8054-D0068B2314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3D598A-CD39-430A-B894-FEEB99C5A0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5CF5A5-A18B-4DEE-96FF-2B7B905EDA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E85B1C-97B2-454B-8815-4DE0D079159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F6574-5C34-43E5-B523-073BD419E16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63BB5-A579-4E27-B4A9-CD277BC940E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685800"/>
            <a:ext cx="4800600" cy="502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Building Background Knowledge</a:t>
            </a:r>
            <a:br>
              <a:rPr sz="4800"/>
            </a:br>
            <a:r>
              <a:rPr b="0" lang="en-US" sz="4800" spc="-1" strike="noStrike">
                <a:solidFill>
                  <a:srgbClr val="ffffcc"/>
                </a:solidFill>
                <a:latin typeface="Tahoma"/>
              </a:rPr>
              <a:t>of Letters and Sounds</a:t>
            </a:r>
            <a:br>
              <a:rPr sz="4800"/>
            </a:br>
            <a:endParaRPr b="0" lang="en-US" sz="4800" spc="-1" strike="noStrike">
              <a:solidFill>
                <a:srgbClr val="ffffcc"/>
              </a:solidFill>
              <a:latin typeface="Tahoma"/>
            </a:endParaRPr>
          </a:p>
        </p:txBody>
      </p:sp>
      <p:sp>
        <p:nvSpPr>
          <p:cNvPr id="127" name="">
            <a:hlinkClick r:id="" action="ppaction://hlinkshowjump?jump=nextslide"/>
          </p:cNvPr>
          <p:cNvSpPr/>
          <p:nvPr/>
        </p:nvSpPr>
        <p:spPr>
          <a:xfrm>
            <a:off x="7543800" y="6095880"/>
            <a:ext cx="1347840" cy="609840"/>
          </a:xfrm>
          <a:custGeom>
            <a:avLst/>
            <a:gdLst>
              <a:gd name="textAreaLeft" fmla="*/ 39240 w 1347840"/>
              <a:gd name="textAreaRight" fmla="*/ 1308600 w 1347840"/>
              <a:gd name="textAreaTop" fmla="*/ 39240 h 609840"/>
              <a:gd name="textAreaBottom" fmla="*/ 570600 h 609840"/>
            </a:gdLst>
            <a:ahLst/>
            <a:rect l="textAreaLeft" t="textAreaTop" r="textAreaRight" b="textAreaBottom"/>
            <a:pathLst>
              <a:path w="47724" h="21600">
                <a:moveTo>
                  <a:pt x="0" y="0"/>
                </a:moveTo>
                <a:lnTo>
                  <a:pt x="47724" y="0"/>
                </a:lnTo>
                <a:lnTo>
                  <a:pt x="47724" y="21600"/>
                </a:lnTo>
                <a:lnTo>
                  <a:pt x="0" y="21600"/>
                </a:lnTo>
                <a:close/>
              </a:path>
              <a:path fill="lightenLess" w="47724" h="21600">
                <a:moveTo>
                  <a:pt x="0" y="0"/>
                </a:moveTo>
                <a:lnTo>
                  <a:pt x="47724" y="0"/>
                </a:lnTo>
                <a:lnTo>
                  <a:pt x="46324" y="1400"/>
                </a:lnTo>
                <a:lnTo>
                  <a:pt x="1400" y="1400"/>
                </a:lnTo>
                <a:close/>
              </a:path>
              <a:path fill="darken" w="47724" h="21600">
                <a:moveTo>
                  <a:pt x="47724" y="0"/>
                </a:moveTo>
                <a:lnTo>
                  <a:pt x="47724" y="21600"/>
                </a:lnTo>
                <a:lnTo>
                  <a:pt x="46324" y="20200"/>
                </a:lnTo>
                <a:lnTo>
                  <a:pt x="46324" y="1400"/>
                </a:lnTo>
                <a:close/>
              </a:path>
              <a:path fill="darkenLess" w="47724" h="21600">
                <a:moveTo>
                  <a:pt x="47724" y="21600"/>
                </a:moveTo>
                <a:lnTo>
                  <a:pt x="0" y="21600"/>
                </a:lnTo>
                <a:lnTo>
                  <a:pt x="1400" y="20200"/>
                </a:lnTo>
                <a:lnTo>
                  <a:pt x="46324" y="20200"/>
                </a:lnTo>
                <a:close/>
              </a:path>
              <a:path fill="lighten" w="47724" h="21600">
                <a:moveTo>
                  <a:pt x="0" y="21600"/>
                </a:moveTo>
                <a:lnTo>
                  <a:pt x="0" y="0"/>
                </a:lnTo>
                <a:lnTo>
                  <a:pt x="1400" y="1400"/>
                </a:lnTo>
                <a:lnTo>
                  <a:pt x="1400" y="20200"/>
                </a:lnTo>
                <a:close/>
              </a:path>
              <a:path fill="darken" w="47724" h="21600">
                <a:moveTo>
                  <a:pt x="16855" y="3794"/>
                </a:moveTo>
                <a:lnTo>
                  <a:pt x="30868" y="10800"/>
                </a:lnTo>
                <a:lnTo>
                  <a:pt x="16855"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pic>
        <p:nvPicPr>
          <p:cNvPr id="128" name="" descr=""/>
          <p:cNvPicPr/>
          <p:nvPr/>
        </p:nvPicPr>
        <p:blipFill>
          <a:blip r:embed="rId1"/>
          <a:stretch/>
        </p:blipFill>
        <p:spPr>
          <a:xfrm>
            <a:off x="5943600" y="1295280"/>
            <a:ext cx="2209680" cy="3810240"/>
          </a:xfrm>
          <a:prstGeom prst="rect">
            <a:avLst/>
          </a:prstGeom>
          <a:ln w="0">
            <a:noFill/>
          </a:ln>
        </p:spPr>
      </p:pic>
    </p:spTree>
  </p:cSld>
  <p:transition spd="slow">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457200"/>
            <a:ext cx="8229600" cy="567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Thursday</a:t>
            </a:r>
            <a:r>
              <a:rPr b="0" lang="en-US" sz="3200" spc="-1" strike="noStrike">
                <a:solidFill>
                  <a:srgbClr val="ffffff"/>
                </a:solidFill>
                <a:latin typeface="Tahoma"/>
              </a:rPr>
              <a:t>: Review Monday, Tuesday and Wednesday and introduce letter formation.  Use some sort of oral direction for making the letter (ex.  Start at the top, straight line down, across in the middle)  Give students time to practice this in a variety of ways (write it on their hands, in the air, on a neighbors back, in rice, in shaving cream etc…..) in addition to practicing with paper and penci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59"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457200"/>
            <a:ext cx="8229600" cy="567360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Friday</a:t>
            </a:r>
            <a:r>
              <a:rPr b="0" lang="en-US" sz="3200" spc="-1" strike="noStrike">
                <a:solidFill>
                  <a:srgbClr val="ffffff"/>
                </a:solidFill>
                <a:latin typeface="Tahoma"/>
              </a:rPr>
              <a:t>:  Review lessons from previous 4 days.  Working together, create a small “poster” of things whose name begins with the letter.  Do this several times together with students brainstorming things to draw. Make sure to label each picture with it’s name, allowing students to help with spelling.  Students can copy the teachers poster for the first few letters that are introduced but then gradually pull back the support and have students generate the pictures and words.</a:t>
            </a:r>
            <a:endParaRPr b="0" lang="en-US" sz="3200" spc="-1" strike="noStrike">
              <a:solidFill>
                <a:srgbClr val="ffffff"/>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62"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ember as simple as this seems to us, we are building background knowledge for our students that they will be able to use when they are learning to read and write.  A “one and done” approach to phonics and phonological awareness will not produce success for our student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65"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cover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addition to explicitly teaching letter name, sound, formation etc…., consider creating learning stations that incorporate their new letters as well as previous letters taught.  This allows additional time for independent practice and gives students the opportunity to apply what they are learning.</a:t>
            </a:r>
            <a:endParaRPr b="0" lang="en-US" sz="3200" spc="-1" strike="noStrike">
              <a:solidFill>
                <a:srgbClr val="ffffff"/>
              </a:solidFill>
              <a:latin typeface="Tahoma"/>
            </a:endParaRPr>
          </a:p>
        </p:txBody>
      </p:sp>
      <p:sp>
        <p:nvSpPr>
          <p:cNvPr id="167"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68"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push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Remember…..</a:t>
            </a:r>
            <a:endParaRPr b="0" lang="en-US" sz="3800" spc="-1" strike="noStrike">
              <a:solidFill>
                <a:srgbClr val="ffffcc"/>
              </a:solidFill>
              <a:latin typeface="Tahoma"/>
            </a:endParaRPr>
          </a:p>
        </p:txBody>
      </p:sp>
      <p:sp>
        <p:nvSpPr>
          <p:cNvPr id="170"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ildren need multiple exposures to content in order to retain it in their long term memory and access it into their working memor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ke review a part of your daily routine.  As long as it’s fun and engaging, your students won’t get bored!</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tters and their sounds (phonics and phonological awareness) are the building blocks to written language both expressive and receptive.  Their instruction needs to be both specific and explici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1"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380880"/>
            <a:ext cx="822960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his book, </a:t>
            </a:r>
            <a:r>
              <a:rPr b="1" i="1" lang="en-US" sz="3200" spc="-1" strike="noStrike" u="sng">
                <a:solidFill>
                  <a:srgbClr val="ffffff"/>
                </a:solidFill>
                <a:uFillTx/>
                <a:latin typeface="Tahoma"/>
              </a:rPr>
              <a:t>Building Background Knowledge for Academic Achievement</a:t>
            </a:r>
            <a:r>
              <a:rPr b="0" lang="en-US" sz="3200" spc="-1" strike="noStrike">
                <a:solidFill>
                  <a:srgbClr val="ffffff"/>
                </a:solidFill>
                <a:latin typeface="Tahoma"/>
              </a:rPr>
              <a:t>, Robert Marzano write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What students already know about the content is one of the strongest indicators of how well they will learn new information relative to the content.” (2004)</a:t>
            </a:r>
            <a:endParaRPr b="0" lang="en-US" sz="3200" spc="-1" strike="noStrike">
              <a:solidFill>
                <a:srgbClr val="ffffff"/>
              </a:solidFill>
              <a:latin typeface="Tahoma"/>
            </a:endParaRPr>
          </a:p>
        </p:txBody>
      </p:sp>
      <p:sp>
        <p:nvSpPr>
          <p:cNvPr id="130"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
        <p:nvSpPr>
          <p:cNvPr id="131"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pic>
        <p:nvPicPr>
          <p:cNvPr id="132" name="" descr=""/>
          <p:cNvPicPr/>
          <p:nvPr/>
        </p:nvPicPr>
        <p:blipFill>
          <a:blip r:embed="rId1"/>
          <a:stretch/>
        </p:blipFill>
        <p:spPr>
          <a:xfrm>
            <a:off x="3352680" y="4495680"/>
            <a:ext cx="1600200" cy="2057400"/>
          </a:xfrm>
          <a:prstGeom prst="rect">
            <a:avLst/>
          </a:prstGeom>
          <a:ln w="0">
            <a:noFill/>
          </a:ln>
        </p:spPr>
      </p:pic>
    </p:spTree>
  </p:cSld>
  <p:transition spd="slow">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914400"/>
            <a:ext cx="8229600" cy="521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cause Kindergarten students come to us with various levels of letter and sound knowledge, we must ensure that all students acquire what they need to become successful readers and writers.  In order to begin to read and write, students must have a working knowledge of letters and sounds and the relationship between the tw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35"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order to achieve this teachers mus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etermine what students already know.</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Plan explicit, differentiated intruction based on student’s need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Provide sufficient experience and practice to help students acquire the necessary background knowledg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38"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866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What do students</a:t>
            </a:r>
            <a:br>
              <a:rPr sz="3800"/>
            </a:br>
            <a:r>
              <a:rPr b="0" lang="en-US" sz="3800" spc="-1" strike="noStrike">
                <a:solidFill>
                  <a:srgbClr val="ffffcc"/>
                </a:solidFill>
                <a:latin typeface="Tahoma"/>
              </a:rPr>
              <a:t>need to know know?</a:t>
            </a:r>
            <a:endParaRPr b="0" lang="en-US" sz="3800" spc="-1" strike="noStrike">
              <a:solidFill>
                <a:srgbClr val="ffffcc"/>
              </a:solidFill>
              <a:latin typeface="Tahoma"/>
            </a:endParaRPr>
          </a:p>
        </p:txBody>
      </p:sp>
      <p:sp>
        <p:nvSpPr>
          <p:cNvPr id="140" name="PlaceHolder 2"/>
          <p:cNvSpPr>
            <a:spLocks noGrp="1"/>
          </p:cNvSpPr>
          <p:nvPr>
            <p:ph/>
          </p:nvPr>
        </p:nvSpPr>
        <p:spPr>
          <a:xfrm>
            <a:off x="228240" y="1523520"/>
            <a:ext cx="8458200" cy="487692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How does the letter sound? (auditory)</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How is the letter formed? (visual/tactile/auditory)</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Where does the letter fit into the alphabet? (visual/auditory)</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What are some common things whose name begins with the letter? (visual/tactile/auditory)</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What does it feel like to make the letter? (tactil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1"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
        <p:nvSpPr>
          <p:cNvPr id="142"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Tree>
  </p:cSld>
  <p:transition spd="slow">
    <p:push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51920"/>
            <a:ext cx="8229600" cy="59785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Should Teachers Do Next?</a:t>
            </a:r>
            <a:endParaRPr b="0" lang="en-US" sz="28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ability to identify a letter is only one component of letter knowledge.  Because we know students learn differently, we must be sure to include all modalities in our instruction. Songs that incorporate whole body movement and music are a great tool to incorporate into your daily routine.</a:t>
            </a:r>
            <a:r>
              <a:rPr b="0" lang="en-US" sz="3600" spc="-1" strike="noStrike">
                <a:solidFill>
                  <a:srgbClr val="ffffff"/>
                </a:solidFill>
                <a:latin typeface="Tahoma"/>
              </a:rPr>
              <a:t>   </a:t>
            </a:r>
            <a:endParaRPr b="0" lang="en-US" sz="3600" spc="-1" strike="noStrike">
              <a:solidFill>
                <a:srgbClr val="ffffff"/>
              </a:solidFill>
              <a:latin typeface="Tahoma"/>
            </a:endParaRPr>
          </a:p>
        </p:txBody>
      </p:sp>
      <p:graphicFrame>
        <p:nvGraphicFramePr>
          <p:cNvPr id="144" name="ShockwaveFlash1"/>
          <p:cNvGraphicFramePr/>
          <p:nvPr/>
        </p:nvGraphicFramePr>
        <p:xfrm>
          <a:off x="1981080" y="2895480"/>
          <a:ext cx="5334120" cy="3810240"/>
        </p:xfrm>
        <a:graphic>
          <a:graphicData uri="http://schemas.openxmlformats.org/presentationml/2006/ole">
            <p:oleObj r:id="rId1" spid="">
              <p:embed/>
              <p:pic>
                <p:nvPicPr>
                  <p:cNvPr id="145" name="ShockwaveFlash1" descr=""/>
                  <p:cNvPicPr/>
                  <p:nvPr/>
                </p:nvPicPr>
                <p:blipFill>
                  <a:blip r:embed="rId2"/>
                  <a:stretch/>
                </p:blipFill>
                <p:spPr>
                  <a:xfrm>
                    <a:off x="1981080" y="2895480"/>
                    <a:ext cx="5334120" cy="3810240"/>
                  </a:xfrm>
                  <a:prstGeom prst="rect">
                    <a:avLst/>
                  </a:prstGeom>
                  <a:ln w="9360">
                    <a:solidFill>
                      <a:srgbClr val="ffffff"/>
                    </a:solidFill>
                    <a:miter/>
                  </a:ln>
                </p:spPr>
              </p:pic>
            </p:oleObj>
          </a:graphicData>
        </a:graphic>
      </p:graphicFrame>
      <p:sp>
        <p:nvSpPr>
          <p:cNvPr id="146"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47" name="">
            <a:hlinkClick r:id="" action="ppaction://hlinkshowjump?jump=nextslide"/>
          </p:cNvPr>
          <p:cNvSpPr/>
          <p:nvPr/>
        </p:nvSpPr>
        <p:spPr>
          <a:xfrm>
            <a:off x="7796160" y="6400800"/>
            <a:ext cx="1347840" cy="457200"/>
          </a:xfrm>
          <a:custGeom>
            <a:avLst/>
            <a:gdLst>
              <a:gd name="textAreaLeft" fmla="*/ 29520 w 1347840"/>
              <a:gd name="textAreaRight" fmla="*/ 1318320 w 1347840"/>
              <a:gd name="textAreaTop" fmla="*/ 29520 h 457200"/>
              <a:gd name="textAreaBottom" fmla="*/ 427680 h 457200"/>
            </a:gdLst>
            <a:ahLst/>
            <a:rect l="textAreaLeft" t="textAreaTop" r="textAreaRight" b="textAreaBottom"/>
            <a:pathLst>
              <a:path w="63644" h="21600">
                <a:moveTo>
                  <a:pt x="0" y="0"/>
                </a:moveTo>
                <a:lnTo>
                  <a:pt x="63644" y="0"/>
                </a:lnTo>
                <a:lnTo>
                  <a:pt x="63644" y="21600"/>
                </a:lnTo>
                <a:lnTo>
                  <a:pt x="0" y="21600"/>
                </a:lnTo>
                <a:close/>
              </a:path>
              <a:path fill="lightenLess" w="63644" h="21600">
                <a:moveTo>
                  <a:pt x="0" y="0"/>
                </a:moveTo>
                <a:lnTo>
                  <a:pt x="63644" y="0"/>
                </a:lnTo>
                <a:lnTo>
                  <a:pt x="62244" y="1400"/>
                </a:lnTo>
                <a:lnTo>
                  <a:pt x="1400" y="1400"/>
                </a:lnTo>
                <a:close/>
              </a:path>
              <a:path fill="darken" w="63644" h="21600">
                <a:moveTo>
                  <a:pt x="63644" y="0"/>
                </a:moveTo>
                <a:lnTo>
                  <a:pt x="63644" y="21600"/>
                </a:lnTo>
                <a:lnTo>
                  <a:pt x="62244" y="20200"/>
                </a:lnTo>
                <a:lnTo>
                  <a:pt x="62244" y="1400"/>
                </a:lnTo>
                <a:close/>
              </a:path>
              <a:path fill="darkenLess" w="63644" h="21600">
                <a:moveTo>
                  <a:pt x="63644" y="21600"/>
                </a:moveTo>
                <a:lnTo>
                  <a:pt x="0" y="21600"/>
                </a:lnTo>
                <a:lnTo>
                  <a:pt x="1400" y="20200"/>
                </a:lnTo>
                <a:lnTo>
                  <a:pt x="62244" y="20200"/>
                </a:lnTo>
                <a:close/>
              </a:path>
              <a:path fill="lighten" w="63644" h="21600">
                <a:moveTo>
                  <a:pt x="0" y="21600"/>
                </a:moveTo>
                <a:lnTo>
                  <a:pt x="0" y="0"/>
                </a:lnTo>
                <a:lnTo>
                  <a:pt x="1400" y="1400"/>
                </a:lnTo>
                <a:lnTo>
                  <a:pt x="1400" y="20200"/>
                </a:lnTo>
                <a:close/>
              </a:path>
              <a:path fill="darken" w="63644" h="21600">
                <a:moveTo>
                  <a:pt x="24816" y="3794"/>
                </a:moveTo>
                <a:lnTo>
                  <a:pt x="38829" y="10800"/>
                </a:lnTo>
                <a:lnTo>
                  <a:pt x="24816"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need multiple exposures to content in order to retain it.  These exposures should be spread out and alternated with exposure to other content.</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introducing a new letter to students plan some type of activity each day.  A sample plan might look like thi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Monday</a:t>
            </a:r>
            <a:r>
              <a:rPr b="0" lang="en-US" sz="2800" spc="-1" strike="noStrike">
                <a:solidFill>
                  <a:srgbClr val="ffffff"/>
                </a:solidFill>
                <a:latin typeface="Tahoma"/>
              </a:rPr>
              <a:t>:  Introduce the letter name and show students the letter.  Try to incorporate something fun or memorable into the lesson that students can connect the letter with like a puppet or cartoon character.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9"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
        <p:nvSpPr>
          <p:cNvPr id="150"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Tree>
  </p:cSld>
  <p:transition spd="slow">
    <p:pull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uesday</a:t>
            </a:r>
            <a:r>
              <a:rPr b="0" lang="en-US" sz="2800" spc="-1" strike="noStrike">
                <a:solidFill>
                  <a:srgbClr val="ffffff"/>
                </a:solidFill>
                <a:latin typeface="Tahoma"/>
              </a:rPr>
              <a:t>:  Review everything from Monday and introduce the letter sound.  Introduce a “Surprise Sack” (use the Dr. Jean Song) that contains items whose name begins with that letter sound.  By including both familiar and unfamiliar objects, this becomes a great opportunity for vocabulary development as well.  Encouraging students to predict what might be in the bag gives them the opportunity to engage and use the recently introduced letter sound.  Show items one at a time, naming each.  As you return the items to the back, have students say “goodbye” to each item, naming it as you place it back in the bag.</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52"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53"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533520"/>
            <a:ext cx="8229600" cy="559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Wednesday</a:t>
            </a:r>
            <a:r>
              <a:rPr b="0" lang="en-US" sz="3200" spc="-1" strike="noStrike">
                <a:solidFill>
                  <a:srgbClr val="ffffff"/>
                </a:solidFill>
                <a:latin typeface="Tahoma"/>
              </a:rPr>
              <a:t>:  Review Monday and Tuesday (letter name and sound).  Identify where the letter is in the alphabet by saying (not singing) the alphabet to that letter.  Note the letters that come before and after it.  Find the letter on your word wall. Do you have any important words or student’s names on your word wall that begin with that lett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56"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16:53:46Z</dcterms:created>
  <dc:creator>Vern</dc:creator>
  <dc:description/>
  <dc:language>en-US</dc:language>
  <cp:lastModifiedBy>Vern</cp:lastModifiedBy>
  <dcterms:modified xsi:type="dcterms:W3CDTF">2009-11-14T17:11:40Z</dcterms:modified>
  <cp:revision>10</cp:revision>
  <dc:subject/>
  <dc:title>Building Background Knowledge</dc:title>
</cp:coreProperties>
</file>